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1C9-2991-4A2C-B7F1-D81A9AF9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856-883C-4617-B57B-DF3D0C0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4F7-015B-49C1-A0E9-6F159B0B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86F-B01A-4EED-AF1B-3649C500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FF0-06F5-4B05-9B18-1609460F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506-13B2-4A43-A68A-AE2A88A6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108-9738-4507-A320-150845F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D4D-B670-46FA-AD9E-3685ED4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B60-9C1A-4172-A999-345A249E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DE2-6293-49B4-8D79-0522CAF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EA2-133A-46C5-A3AD-4D31EA6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B86-12EF-4BF1-9052-9D7B871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13F7-A9F5-4AFA-8482-DD8428AE5632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eitragsschni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8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it Cool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8.)Zusammenbauen der Multitrack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dem das mit allen brauchbaren Teilen passiert ist geht es an das zusammenbauen der Multitracksession, Um dort hinzugelangen F12 (oder siehe Pfeil im Beispi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verschiedenen Teile können ganz einfach mit der rechten Maustaste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v und O-Ton sollten dabei, wie im Beispiel, auf getrennten Spuren laufen um eventuelle Volumenunterschiede ausgleichen zu kö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2160" cy="621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404640"/>
            <a:ext cx="468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hnen Zusammenschi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er Button „Block Edge Dragging“ (siehe Pfeil) aktiviert, können alle Teile nach belieben, mit der linken Maustaste, in die Länge gezogen, bzw. verkürz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26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6300720" y="0"/>
            <a:ext cx="43200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9.) Hintergrund Mus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og zu Punkt: 3.) Öffnen der Files im Cool Edit wird nun die Musik in die Session geschic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rmat mp3 p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bei ist wieder zu beachten, dass sich die Musik auf einer eigenen Spur befind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n kann die Hintergrund Musik nach den zuvor beschriebenen Methoden bearbeite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usik sollte ca. 1sek. vorlaufen, bevor der erste Sprach - Teil einset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m Ende des Berichts ca. 3sek. weiterlaufen lassen, und diesen Bereich mark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Volumen - B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es gilt für die Musik während Gesprochen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die beiden But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ow Volume Envelopes“ und „Edit Envelop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iehe Pfeile) aktiviert, kann man mit der linken Maustaste direkt am File, so genannte Volumen – Betten Zeichnen (siehe Beis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88000" y="26028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84720" y="26028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066920" y="378936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4.) Wichti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bald Die O-Töne und CV´s eingespielt sind sollte man die Session speich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größeren Session kann gelegentliches zwischenspeichern auch nie schaden, und viel Ärger erspa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35733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704360" cy="3273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308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le / Save Sessio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ch die Session wird natürlich wieder benannt und im Projektordner abgespeichert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 dabei ist das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Save copies of all associated files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gehakt ist!!!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iehe Pfeil links un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74720" y="1957320"/>
            <a:ext cx="5792760" cy="3810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1403280" y="5660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0.) Mix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man mit der Session zufrieden, sollte man sie wie i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) Punkt erwähnt speich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passen: Kein Schnipsel darf angeklick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/ Save Mixdown as, im Projektordner in einem Subordner Namens „mixes“ als Mixdown ab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.) Ordner er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048360" cy="332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5157720"/>
            <a:ext cx="7775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neue Ordner wird im persönlichen Ordner (also z.B..: Flo) erstellt, und nach dem Datum (jjmmtt) und dem Projekt benan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iesem Fall also: 080716 Lernde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 ist auch, dass man vor dem Speichern des Mixdown auf Options (siehe Pfeil) alle Einstellungen Überprüft!!! (siehe Beis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327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3132000" y="407628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k, dass war´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iel Spaß beim Bastel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2.) O-Ton CV und Text einfü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210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3.) Öffnen der files im Cool 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060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5.) Normalis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1125360"/>
            <a:ext cx="7632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ppelklick auf z.B..: ot.mp3 / Doppelklick direkt auf das File (siehe Pfeil) um die gesamte Spur zu mark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ffects / Amplitude / Normalize auf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484360" y="443664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6.) Grob schne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unserem Beispiel soll der 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das nicht nur, weil man mit beherztem Handeln Leben retten kann. Aus der CV entfern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er gewünschte Text gefunden setzt man mit Shift+F8 am Anfang und am Ende eine Markierung um sich dass Schneiden zu Erleich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n wird der gewünschte Text mit der gehaltenen linken Maustaste wie im folgenden Beispiel Mark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chließend mit der rechten Maustaste in den markierten Bereich klicken und mit cut wegschneiden (schneller geht´s mit strg+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7.) Auswahl der gewünschten Te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Teile die für den Beitrag benötigt werden, markieren und mit der rechten Maustaste, mit Insert Into Multitrack(oder strg+M) in die Multitracksession schicken.(siehe Beispi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1:51:12Z</dcterms:created>
  <dc:creator>marterer</dc:creator>
  <dc:description/>
  <dc:language>en-US</dc:language>
  <cp:lastModifiedBy>njoy</cp:lastModifiedBy>
  <dcterms:modified xsi:type="dcterms:W3CDTF">2008-07-22T10:20:02Z</dcterms:modified>
  <cp:revision>6</cp:revision>
  <dc:subject/>
  <dc:title>Beitragsschnitt</dc:title>
</cp:coreProperties>
</file>